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5"/>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7"/>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5F853C-ABF4-4D8D-A270-6FBA41AF5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E908FB0-3B77-4159-BE5E-186B3AE71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58840" y="681120"/>
            <a:ext cx="4540320" cy="3405240"/>
          </a:xfrm>
          <a:prstGeom prst="rect">
            <a:avLst/>
          </a:prstGeom>
          <a:ln w="0">
            <a:noFill/>
          </a:ln>
        </p:spPr>
      </p:sp>
      <p:sp>
        <p:nvSpPr>
          <p:cNvPr id="26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7C1598-FDF8-4DC5-A665-BC1E810D0E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798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53ACD6-3209-4A5E-9298-42554DC2A3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A08730-C460-4EC4-AD82-62C440A40B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035C27-DB52-4D4D-B8FD-4166DA0976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E07BE4-61F1-4B96-B4B5-2C0FFC8B03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457200" y="17985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7181EA-676B-4B03-A95E-21068157BC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136EC0-D792-410B-AB64-0DD60CC790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7CF1E2-F6BC-4042-B5E9-EA8775EC01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6093E0-8FED-441B-AC00-B054A60927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85C60F-EFC1-4E4E-8FBD-3A37657A1D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221289-0DE4-4D5F-BF7D-DA4DA7E80F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7985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F17B34-0826-4BED-B625-3499DFAE7E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6725E0-4CCD-470E-8F93-78E237CB6E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E0DDF8-7179-4EFC-B670-F721AD8F62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798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B81694-60C8-4E05-8D7E-8A651ECCED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0A0905E-0898-4C34-95AC-3C0934C82B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23964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02208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5720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23964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02208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72A494-2A59-4098-82F8-66D5AB4ABB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8DFB1B-69BD-4C1A-BE65-AA19B8B6C5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2E9695-4A30-48DA-9E43-0EA899DB39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E133D5-3587-4473-85A2-42529277F1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5F135B-3A61-46EA-85BC-9A6EA06397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378D9C-3113-43D9-89C3-81F382DBF1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4DBEFE-462C-4DC7-BD8B-9055DD165F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CCB97B-0EEE-4B73-BF05-07EB5D7B10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solidFill>
            <a:srgbClr val="ccffff"/>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Pearson_WebBar_Top_Blue_RGB"/>
          <p:cNvPicPr/>
          <p:nvPr/>
        </p:nvPicPr>
        <p:blipFill>
          <a:blip r:embed="rId2"/>
          <a:stretch/>
        </p:blipFill>
        <p:spPr>
          <a:xfrm>
            <a:off x="0" y="0"/>
            <a:ext cx="9144000" cy="419040"/>
          </a:xfrm>
          <a:prstGeom prst="rect">
            <a:avLst/>
          </a:prstGeom>
          <a:ln w="0">
            <a:noFill/>
          </a:ln>
        </p:spPr>
      </p:pic>
      <p:sp>
        <p:nvSpPr>
          <p:cNvPr id="3" name="PlaceHolder 3"/>
          <p:cNvSpPr>
            <a:spLocks noGrp="1"/>
          </p:cNvSpPr>
          <p:nvPr>
            <p:ph type="ftr" idx="1"/>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A0B947C3-03DA-4E62-8FAD-579724732A90}"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Pearson_WebBar_Top_Blue_RGB"/>
          <p:cNvPicPr/>
          <p:nvPr/>
        </p:nvPicPr>
        <p:blipFill>
          <a:blip r:embed="rId2"/>
          <a:stretch/>
        </p:blipFill>
        <p:spPr>
          <a:xfrm>
            <a:off x="0" y="0"/>
            <a:ext cx="9144000" cy="419040"/>
          </a:xfrm>
          <a:prstGeom prst="rect">
            <a:avLst/>
          </a:prstGeom>
          <a:ln w="0">
            <a:noFill/>
          </a:ln>
        </p:spPr>
      </p:pic>
      <p:sp>
        <p:nvSpPr>
          <p:cNvPr id="42" name="Rectangle 8"/>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a:t>
            </a:r>
            <a:r>
              <a:rPr b="0" lang="en-US" sz="1000" spc="-1" strike="noStrike">
                <a:solidFill>
                  <a:srgbClr val="333399"/>
                </a:solidFill>
                <a:latin typeface="Symbol"/>
                <a:ea typeface="Symbol"/>
              </a:rPr>
              <a:t></a:t>
            </a:r>
            <a:r>
              <a:rPr b="0" lang="en-US" sz="1000" spc="-1" strike="noStrike">
                <a:solidFill>
                  <a:srgbClr val="333399"/>
                </a:solidFill>
                <a:latin typeface="Times New Roman"/>
              </a:rPr>
              <a:t> 2012 Pearson Canada Inc.</a:t>
            </a:r>
            <a:endParaRPr b="0" lang="en-US" sz="1000" spc="-1" strike="noStrike">
              <a:solidFill>
                <a:srgbClr val="000000"/>
              </a:solidFill>
              <a:latin typeface="Arial"/>
            </a:endParaRPr>
          </a:p>
        </p:txBody>
      </p:sp>
      <p:sp>
        <p:nvSpPr>
          <p:cNvPr id="43" name="PlaceHolder 1"/>
          <p:cNvSpPr>
            <a:spLocks noGrp="1"/>
          </p:cNvSpPr>
          <p:nvPr>
            <p:ph type="title"/>
          </p:nvPr>
        </p:nvSpPr>
        <p:spPr>
          <a:xfrm>
            <a:off x="457200" y="533160"/>
            <a:ext cx="8229600" cy="1143000"/>
          </a:xfrm>
          <a:prstGeom prst="rect">
            <a:avLst/>
          </a:prstGeom>
          <a:solidFill>
            <a:srgbClr val="ccffff"/>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ftr" idx="3"/>
          </p:nvPr>
        </p:nvSpPr>
        <p:spPr>
          <a:xfrm>
            <a:off x="4724280" y="5028840"/>
            <a:ext cx="4267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c) 2013 Pearson Canada Inc.</a:t>
            </a:r>
            <a:endParaRPr b="0" lang="en-US" sz="1000" spc="-1" strike="noStrike">
              <a:solidFill>
                <a:srgbClr val="000000"/>
              </a:solidFill>
              <a:latin typeface="Arial"/>
            </a:endParaRPr>
          </a:p>
        </p:txBody>
      </p:sp>
      <p:sp>
        <p:nvSpPr>
          <p:cNvPr id="46" name="PlaceHolder 4"/>
          <p:cNvSpPr>
            <a:spLocks noGrp="1"/>
          </p:cNvSpPr>
          <p:nvPr>
            <p:ph type="sldNum" idx="4"/>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0D85E451-FCC8-4171-B97E-B6CA99210A7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9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E21FB6F-90E6-4DB9-BA5F-BA7246686390}"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92" name="PlaceHolder 1"/>
          <p:cNvSpPr>
            <a:spLocks noGrp="1"/>
          </p:cNvSpPr>
          <p:nvPr>
            <p:ph/>
          </p:nvPr>
        </p:nvSpPr>
        <p:spPr>
          <a:xfrm>
            <a:off x="696600" y="2468160"/>
            <a:ext cx="3552840" cy="36910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7</a:t>
            </a:r>
            <a:endParaRPr b="0" lang="en-US" sz="48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 of</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rying on</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usiness</a:t>
            </a:r>
            <a:endParaRPr b="0" lang="en-US" sz="4400" spc="-1" strike="noStrike">
              <a:solidFill>
                <a:srgbClr val="000000"/>
              </a:solidFill>
              <a:latin typeface="Times New Roman"/>
            </a:endParaRPr>
          </a:p>
        </p:txBody>
      </p:sp>
      <p:sp>
        <p:nvSpPr>
          <p:cNvPr id="93" name="Rectangle 3"/>
          <p:cNvSpPr/>
          <p:nvPr/>
        </p:nvSpPr>
        <p:spPr>
          <a:xfrm>
            <a:off x="801720" y="457200"/>
            <a:ext cx="754236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title"/>
          </p:nvPr>
        </p:nvSpPr>
        <p:spPr>
          <a:xfrm>
            <a:off x="799920" y="533160"/>
            <a:ext cx="7543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al Fundamentals </a:t>
            </a:r>
            <a:br>
              <a:rPr sz="4000"/>
            </a:br>
            <a:r>
              <a:rPr b="1" lang="en-US" sz="4000" spc="-1" strike="noStrike">
                <a:solidFill>
                  <a:srgbClr val="000000"/>
                </a:solidFill>
                <a:latin typeface="Times New Roman"/>
              </a:rPr>
              <a:t>for Canadian Business </a:t>
            </a:r>
            <a:br>
              <a:rPr sz="4000"/>
            </a:br>
            <a:r>
              <a:rPr b="1" lang="en-US" sz="2200" spc="-1" strike="noStrike">
                <a:solidFill>
                  <a:srgbClr val="000000"/>
                </a:solidFill>
                <a:latin typeface="Times New Roman"/>
              </a:rPr>
              <a:t>Third Edition</a:t>
            </a:r>
            <a:endParaRPr b="0" lang="en-US" sz="2200" spc="-1" strike="noStrike">
              <a:solidFill>
                <a:srgbClr val="000000"/>
              </a:solidFill>
              <a:latin typeface="Times New Roman"/>
            </a:endParaRPr>
          </a:p>
        </p:txBody>
      </p:sp>
      <p:sp>
        <p:nvSpPr>
          <p:cNvPr id="95" name="Text Box 5"/>
          <p:cNvSpPr/>
          <p:nvPr/>
        </p:nvSpPr>
        <p:spPr>
          <a:xfrm>
            <a:off x="13716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6"/>
          <p:cNvSpPr/>
          <p:nvPr/>
        </p:nvSpPr>
        <p:spPr>
          <a:xfrm>
            <a:off x="10508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7"/>
          <p:cNvSpPr/>
          <p:nvPr/>
        </p:nvSpPr>
        <p:spPr>
          <a:xfrm>
            <a:off x="15843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8"/>
          <p:cNvSpPr/>
          <p:nvPr/>
        </p:nvSpPr>
        <p:spPr>
          <a:xfrm>
            <a:off x="15080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1" descr="yates_LegalFund_CRV.jpg"/>
          <p:cNvPicPr/>
          <p:nvPr/>
        </p:nvPicPr>
        <p:blipFill>
          <a:blip r:embed="rId1"/>
          <a:stretch/>
        </p:blipFill>
        <p:spPr>
          <a:xfrm>
            <a:off x="5029200" y="2362320"/>
            <a:ext cx="28954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3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77CA583-F82F-4EA7-AD45-77CFF5A7BD2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inadvertence (implied from con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considered:  joint contribution of capital, joint participation in management of business, sharing of net profits, ongoing bus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rtnership is formed without an express contract, the </a:t>
            </a:r>
            <a:r>
              <a:rPr b="0" i="1" lang="en-US" sz="2800" spc="-1" strike="noStrike">
                <a:solidFill>
                  <a:srgbClr val="000000"/>
                </a:solidFill>
                <a:latin typeface="Times New Roman"/>
              </a:rPr>
              <a:t>Partnership Act</a:t>
            </a:r>
            <a:r>
              <a:rPr b="0" lang="en-US" sz="2800" spc="-1" strike="noStrike">
                <a:solidFill>
                  <a:srgbClr val="000000"/>
                </a:solidFill>
                <a:latin typeface="Times New Roman"/>
              </a:rPr>
              <a:t> governs relations between the partne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3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02EAA9F-16CC-441B-B686-3B12AB982CF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t>
            </a:r>
            <a:r>
              <a:rPr b="0" i="1" lang="en-US" sz="3200" spc="-1" strike="noStrike">
                <a:solidFill>
                  <a:srgbClr val="000000"/>
                </a:solidFill>
                <a:latin typeface="Times New Roman"/>
              </a:rPr>
              <a:t>estopp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creation of agency by </a:t>
            </a:r>
            <a:r>
              <a:rPr b="0" i="1" lang="en-US" sz="2800" spc="-1" strike="noStrike">
                <a:solidFill>
                  <a:srgbClr val="000000"/>
                </a:solidFill>
                <a:latin typeface="Times New Roman"/>
              </a:rPr>
              <a:t>estopp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a partnership is not actually created, liability of a partnership will be imposed on a person who represents self (or allows someone else to represent him/her) as a partner to a third par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cannot later deny the existence of the partnership to escape liability to that third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7E68AEF-9E84-4DB5-9154-DBDCEFA2602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of Partners</a:t>
            </a: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has unlimited liability for all debts and obligations during partner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mited personal liabil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ffected by partnership agreemen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is vicariously liable for other partners and employe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is an agent of the partnership and may bind it in contrac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A2B40636-4291-40AF-88DA-8215A5A13E8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of Partne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to select partners who are trustworthy and financially s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rtnership Act</a:t>
            </a:r>
            <a:r>
              <a:rPr b="0" lang="en-US" sz="3200" spc="-1" strike="noStrike">
                <a:solidFill>
                  <a:srgbClr val="000000"/>
                </a:solidFill>
                <a:latin typeface="Times New Roman"/>
              </a:rPr>
              <a:t> provisions that relate to liability to outsiders can’t be modif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 leaving the business must provide notification to other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customers, suppliers, clients, indust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adequate insurance to cover liabil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EBA59E0F-7688-48BB-B0CC-CF5DFB896F5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ner Relationship</a:t>
            </a: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rtnership Act</a:t>
            </a:r>
            <a:r>
              <a:rPr b="0" lang="en-US" sz="3200" spc="-1" strike="noStrike">
                <a:solidFill>
                  <a:srgbClr val="000000"/>
                </a:solidFill>
                <a:latin typeface="Times New Roman"/>
              </a:rPr>
              <a:t> governs relation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contract out of some aspects, but not liabilit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of day-to-day operations by majority vote (or as otherwise agre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decisions require unanimous agreement and this can’t be chang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 profits equally per the </a:t>
            </a:r>
            <a:r>
              <a:rPr b="0" i="1" lang="en-US" sz="3200" spc="-1" strike="noStrike">
                <a:solidFill>
                  <a:srgbClr val="000000"/>
                </a:solidFill>
                <a:latin typeface="Times New Roman"/>
              </a:rPr>
              <a:t>Act</a:t>
            </a:r>
            <a:r>
              <a:rPr b="0" lang="en-US" sz="3200" spc="-1" strike="noStrike">
                <a:solidFill>
                  <a:srgbClr val="000000"/>
                </a:solidFill>
                <a:latin typeface="Times New Roman"/>
              </a:rPr>
              <a:t> (or unequally by agreemen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5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6B9773E-6C88-4400-A030-35FBB05708A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ner Relationship</a:t>
            </a:r>
            <a:br>
              <a:rPr sz="4400"/>
            </a:br>
            <a:r>
              <a:rPr b="0" lang="en-US" sz="2800" spc="-1" strike="noStrike">
                <a:solidFill>
                  <a:srgbClr val="000000"/>
                </a:solidFill>
                <a:latin typeface="Times New Roman"/>
              </a:rPr>
              <a:t> (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 do not get a salary; usually draw against prof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duciary duty – partners must act in the best interests of the partn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take personal advantage of business opportunities, must disclose any conflict of interest, can’t compete with partnership, can’t use partnership property for personal interests, must account for all expenses and income, etc.</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5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4A1D747-33BD-40F4-852F-832104F2163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solution of Partnership</a:t>
            </a:r>
            <a:endParaRPr b="0" lang="en-US" sz="4400" spc="-1" strike="noStrike">
              <a:solidFill>
                <a:srgbClr val="000000"/>
              </a:solidFill>
              <a:latin typeface="Times New Roman"/>
            </a:endParaRPr>
          </a:p>
        </p:txBody>
      </p:sp>
      <p:sp>
        <p:nvSpPr>
          <p:cNvPr id="15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olution may result fr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th or bankruptcy/insolvency of partner (varies by province); may be modified by partnership agre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by one partn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of project or specified ti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f partnership becomes illeg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 order for diss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 assets used to pay off debts and expenses; remaining amount distributed to partn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0FF3D398-407C-4F85-8B12-66A52229867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Partners</a:t>
            </a:r>
            <a:endParaRPr b="0" lang="en-US" sz="4400" spc="-1" strike="noStrike">
              <a:solidFill>
                <a:srgbClr val="000000"/>
              </a:solidFill>
              <a:latin typeface="Times New Roman"/>
            </a:endParaRPr>
          </a:p>
        </p:txBody>
      </p:sp>
      <p:sp>
        <p:nvSpPr>
          <p:cNvPr id="16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 liability limited to amount invested in partnersh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vailable if:</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t least one general partn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mited partnership is register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mited partner’s name is not used in name of busin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artner does not participate in management of busines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0E76FE5-D91F-4776-A5B8-8D9637DA675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ability Partnership</a:t>
            </a:r>
            <a:endParaRPr b="0" lang="en-US" sz="4400" spc="-1" strike="noStrike">
              <a:solidFill>
                <a:srgbClr val="000000"/>
              </a:solidFill>
              <a:latin typeface="Times New Roman"/>
            </a:endParaRPr>
          </a:p>
        </p:txBody>
      </p:sp>
      <p:sp>
        <p:nvSpPr>
          <p:cNvPr id="16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to certain professio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of the partnership must be registered and designated “LL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s partners from negligent acts or omissions of their other partners (unless supervi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artners must have liability insur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2414B77-CEBC-437D-977B-BDF7751B27E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ions</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 corporation is a separate legal per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ognized as an efficient way of doing bus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rtificially created by statute as a separate legal ent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ists and has rights separate and apart from shareholders or direc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 all jurisdictions, the basic structures, rights and responsibilities of those involved and methods of financing are the s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0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15B47AC-2534-4673-978F-B54899E6EA8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the three basic methods of carrying on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advantages and disadvantages of sole proprietorship and partn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a partner might limit his r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risks of not planning how a business will evolv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7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3FDEE10E-FE14-4072-95AE-D0BAED6B70D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reation of Corporations</a:t>
            </a:r>
            <a:endParaRPr b="0" lang="en-US" sz="4400" spc="-1" strike="noStrike">
              <a:solidFill>
                <a:srgbClr val="000000"/>
              </a:solidFill>
              <a:latin typeface="Times New Roman"/>
            </a:endParaRPr>
          </a:p>
        </p:txBody>
      </p:sp>
      <p:sp>
        <p:nvSpPr>
          <p:cNvPr id="17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s can be created under federal or provincial and territorial statutes, using one of three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andum of Association and Articles of Association are filed at appropriate government agency which issues certificate of registr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used in Nova Scotia</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7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95B440A-43C2-4E98-8884-56D06854A3A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reation of Corporation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79" name="PlaceHolder 2"/>
          <p:cNvSpPr>
            <a:spLocks noGrp="1"/>
          </p:cNvSpPr>
          <p:nvPr>
            <p:ph/>
          </p:nvPr>
        </p:nvSpPr>
        <p:spPr>
          <a:xfrm>
            <a:off x="457200" y="1798560"/>
            <a:ext cx="8229600" cy="4525920"/>
          </a:xfrm>
          <a:prstGeom prst="rect">
            <a:avLst/>
          </a:prstGeom>
          <a:noFill/>
          <a:ln w="0">
            <a:noFill/>
          </a:ln>
        </p:spPr>
        <p:txBody>
          <a:bodyPr anchor="t">
            <a:normAutofit fontScale="98000"/>
          </a:bodyPr>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of incorporation (Continued)</a:t>
            </a:r>
            <a:endParaRPr b="0" lang="en-US" sz="3200" spc="-1" strike="noStrike">
              <a:solidFill>
                <a:srgbClr val="000000"/>
              </a:solidFill>
              <a:latin typeface="Times New Roman"/>
            </a:endParaRPr>
          </a:p>
          <a:p>
            <a:pPr lvl="1" marL="727920" indent="-280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s patent </a:t>
            </a:r>
            <a:endParaRPr b="0" lang="en-US" sz="28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s patent, granting a charter creating a corporation, issued upon application by subscribers</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used in Quebec and P.E.I.</a:t>
            </a:r>
            <a:endParaRPr b="0" lang="en-US" sz="24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les of incorporation</a:t>
            </a:r>
            <a:endParaRPr b="0" lang="en-US" sz="28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s of incorporation are filed; certificate of incorporation issued by appropriate government agency</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in most provinces and federally</a:t>
            </a:r>
            <a:endParaRPr b="0" lang="en-US" sz="24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2" marL="1119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18DA02E-F344-46B4-AD48-D5A63DACF47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Corporations</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8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documents are the constitution of the compan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name, share structure, number and power of directors, any restrictions on types of busines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orporation also has byla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ut normal operating rules, responsibilities of directors and officers and management organiz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federally allows the corporation to carry on business in any provi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7CD21D7-7B64-4CDC-83A4-E78D03E8F6B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Corporations</a:t>
            </a:r>
            <a:endParaRPr b="0" lang="en-US" sz="4400" spc="-1" strike="noStrike">
              <a:solidFill>
                <a:srgbClr val="000000"/>
              </a:solidFill>
              <a:latin typeface="Times New Roman"/>
            </a:endParaRPr>
          </a:p>
        </p:txBody>
      </p:sp>
      <p:sp>
        <p:nvSpPr>
          <p:cNvPr id="18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adly-held corpo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reporting, public, or offering corpor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s generally traded on stock mark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regul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ely-held corpo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corporations; few shar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holders’ agreement extremely impor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ictions on free transferability of sha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6B814C6-0BB3-48FC-BC09-1DE6D2D06E3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a:t>
            </a:r>
            <a:endParaRPr b="0" lang="en-US" sz="4400" spc="-1" strike="noStrike">
              <a:solidFill>
                <a:srgbClr val="000000"/>
              </a:solidFill>
              <a:latin typeface="Times New Roman"/>
            </a:endParaRPr>
          </a:p>
        </p:txBody>
      </p:sp>
      <p:sp>
        <p:nvSpPr>
          <p:cNvPr id="19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hold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of corporation, but owe no duty to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from corporation itsel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vote at shareholder meetings (often by proxy); vote appoints directors who control the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 the directors (who supervise management and operation of the corpo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ity shareholder has ultimate control</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9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19E1C6B-3787-47ED-A115-2DB53251405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s</a:t>
            </a:r>
            <a:endParaRPr b="0" lang="en-US" sz="4400" spc="-1" strike="noStrike">
              <a:solidFill>
                <a:srgbClr val="000000"/>
              </a:solidFill>
              <a:latin typeface="Times New Roman"/>
            </a:endParaRPr>
          </a:p>
        </p:txBody>
      </p:sp>
      <p:sp>
        <p:nvSpPr>
          <p:cNvPr id="19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t up different classes of sha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sha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o vote and share in dividends (i.e., distribution of corporate profits) when declar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o see certain documen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red sha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no voting righ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over common shares for payment of divide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9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A3A4BFA-27C3-4FAE-B354-4D74FE3A24F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e Legal Person</a:t>
            </a:r>
            <a:endParaRPr b="0" lang="en-US" sz="4400" spc="-1" strike="noStrike">
              <a:solidFill>
                <a:srgbClr val="000000"/>
              </a:solidFill>
              <a:latin typeface="Times New Roman"/>
            </a:endParaRPr>
          </a:p>
        </p:txBody>
      </p:sp>
      <p:sp>
        <p:nvSpPr>
          <p:cNvPr id="19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 has the same powers of a natural person to carry on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ctivities carried out through ag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ions:  Corporations created through special statutes (e.g., CBC, CN) may have restricted capacity to enter contra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850025D-4E2A-48FB-9BE9-FFE5B8A5EAF0}"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ability</a:t>
            </a:r>
            <a:endParaRPr b="0" lang="en-US" sz="4400" spc="-1" strike="noStrike">
              <a:solidFill>
                <a:srgbClr val="000000"/>
              </a:solidFill>
              <a:latin typeface="Times New Roman"/>
            </a:endParaRPr>
          </a:p>
        </p:txBody>
      </p:sp>
      <p:sp>
        <p:nvSpPr>
          <p:cNvPr id="20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ts and liabilities remain with corpor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shareholders, directors, and other participants are not li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s may “lift the corporate veil” in certain situations and impose liability on directors or shareholders (e.g., criminal activities, frau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oration does not “d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ment is separate from ownership of corporation; managers are answerable to direc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3F4EDE88-C9E5-493B-8806-6C3CB0E3020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Rights</a:t>
            </a:r>
            <a:endParaRPr b="0" lang="en-US" sz="4400" spc="-1" strike="noStrike">
              <a:solidFill>
                <a:srgbClr val="000000"/>
              </a:solidFill>
              <a:latin typeface="Times New Roman"/>
            </a:endParaRPr>
          </a:p>
        </p:txBody>
      </p:sp>
      <p:sp>
        <p:nvSpPr>
          <p:cNvPr id="20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vo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share in dividends (if decla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share in assets upon dissolution of corpo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inspect certain rec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ity shareholders have right to “diss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greement with directors on major change that’s good for corporation but hurts minority shareholder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02ACDE46-E3DA-4A29-BF0E-7497A65580B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Right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ression a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s to shareholders, creditors, directors, offic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ctions negatively affecting the shareholders and the corpor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emptive r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hares must be offered first to existing sharehold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ve action (aka derivative a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y shareholder brings action for damage on behalf of the corporation, often against the dire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0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E2D717C-05C7-4A95-815D-67BDCA07FE3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0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thods and objectives of incorpora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e duties and obligations of directors and shar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ethical business prac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various methods of funding corporate activ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1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C36526E-30F5-4C82-8ECF-EE9D093371E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endParaRPr b="0" lang="en-US" sz="4400" spc="-1" strike="noStrike">
              <a:solidFill>
                <a:srgbClr val="000000"/>
              </a:solidFill>
              <a:latin typeface="Times New Roman"/>
            </a:endParaRPr>
          </a:p>
        </p:txBody>
      </p:sp>
      <p:sp>
        <p:nvSpPr>
          <p:cNvPr id="21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ed by the shar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ty is to the corporation itsel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exercise care, diligence, and skill of reasonably prudent person in comparable circumsta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 fiduciary duty to the corpo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always act in best interests of corporatio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1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E12D66C1-A69A-491E-A5CC-AA7F6F1D37E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duciary duty includ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ng honesty and good fait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on information to corpo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on business opportuniti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nly pursue opportunity if board rejects the deal and gives permission to director to pursue</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no conflict of interes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ny violation will require director to pay over profits made or be liable for any losses</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E77B2709-627D-485A-949E-B98F459E96B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tory duties and liabilit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declare dividends if company insolv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ertain taxes and dedu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ertain unpaid w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environmental dam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offences under </a:t>
            </a:r>
            <a:r>
              <a:rPr b="0" i="1" lang="en-US" sz="2800" spc="-1" strike="noStrike">
                <a:solidFill>
                  <a:srgbClr val="000000"/>
                </a:solidFill>
                <a:latin typeface="Times New Roman"/>
              </a:rPr>
              <a:t>Competition Act </a:t>
            </a:r>
            <a:r>
              <a:rPr b="0" lang="en-US" sz="2800" spc="-1" strike="noStrike">
                <a:solidFill>
                  <a:srgbClr val="000000"/>
                </a:solidFill>
                <a:latin typeface="Times New Roman"/>
              </a:rPr>
              <a:t>and other legislation, fraud, and criminal activit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diligence must be practic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A5C99BC-9A31-4F95-A31A-E10650E9F4E0}"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Parties</a:t>
            </a:r>
            <a:endParaRPr b="0" lang="en-US" sz="4400" spc="-1" strike="noStrike">
              <a:solidFill>
                <a:srgbClr val="000000"/>
              </a:solidFill>
              <a:latin typeface="Times New Roman"/>
            </a:endParaRPr>
          </a:p>
        </p:txBody>
      </p:sp>
      <p:sp>
        <p:nvSpPr>
          <p:cNvPr id="22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ointed by directo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fiduciary duty to the corpo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share liability with Directors (under statut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duties as directors and officers initiall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not misrepresent or conceal information from future sharehol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34A587A4-6182-4589-8D36-F080EEE6254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Governance</a:t>
            </a:r>
            <a:endParaRPr b="0" lang="en-US" sz="4400" spc="-1" strike="noStrike">
              <a:solidFill>
                <a:srgbClr val="000000"/>
              </a:solidFill>
              <a:latin typeface="Times New Roman"/>
            </a:endParaRPr>
          </a:p>
        </p:txBody>
      </p:sp>
      <p:sp>
        <p:nvSpPr>
          <p:cNvPr id="23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increased vigilance and tighter regulations after a number of high profile business scand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ethical standards and care in selection of people who control our busin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Comp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by U.N. to encourage ethics in multinational corporations through 10 princi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f public and private institution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3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42F101D-50B5-461B-9E45-B3E64CBA3A1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Governance</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3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buses are covered under </a:t>
            </a:r>
            <a:r>
              <a:rPr b="0" i="1" lang="en-US" sz="3200" spc="-1" strike="noStrike">
                <a:solidFill>
                  <a:srgbClr val="000000"/>
                </a:solidFill>
                <a:latin typeface="Times New Roman"/>
              </a:rPr>
              <a:t>Criminal Code of Ca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actors contribute to recent increase in frau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es need to implement measures to prevent and detect corporate fraud, such a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prevention tea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ethical standards and code of condu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employee trai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3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CD3E912-BE7D-48A4-9E4A-F59FB6F1574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a:t>
            </a:r>
            <a:endParaRPr b="0" lang="en-US" sz="4400" spc="-1" strike="noStrike">
              <a:solidFill>
                <a:srgbClr val="000000"/>
              </a:solidFill>
              <a:latin typeface="Times New Roman"/>
            </a:endParaRPr>
          </a:p>
        </p:txBody>
      </p:sp>
      <p:sp>
        <p:nvSpPr>
          <p:cNvPr id="239" name="PlaceHolder 2"/>
          <p:cNvSpPr>
            <a:spLocks noGrp="1"/>
          </p:cNvSpPr>
          <p:nvPr>
            <p:ph/>
          </p:nvPr>
        </p:nvSpPr>
        <p:spPr>
          <a:xfrm>
            <a:off x="457200" y="1798560"/>
            <a:ext cx="8229600" cy="452592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financing</a:t>
            </a:r>
            <a:endParaRPr b="0" lang="en-US" sz="32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s obtained through sale of shares</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ized share capital determined at incorporation; issued shares usually less than total authorized</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no value put on shares when issued; value determined by the market</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hares of broadly-held corporation initially issued, a prospectus with investor information is required</a:t>
            </a:r>
            <a:endParaRPr b="0" lang="en-US" sz="2800" spc="-1" strike="noStrike">
              <a:solidFill>
                <a:srgbClr val="000000"/>
              </a:solidFill>
              <a:latin typeface="Times New Roman"/>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436F91B-8F76-40E3-920D-D7899D3FFDE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 fina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holders’ loa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out security on corporate asse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r other creditor) loa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security and may require personal guarantees from directors and/or shareholder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ds or debentu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debt; issued to the public and then traded on the mar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0D90717-68BF-4E20-BD4B-215D173B2BB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Summary</a:t>
            </a:r>
            <a:endParaRPr b="0" lang="en-US" sz="4400" spc="-1" strike="noStrike">
              <a:solidFill>
                <a:srgbClr val="000000"/>
              </a:solidFill>
              <a:latin typeface="Times New Roman"/>
            </a:endParaRPr>
          </a:p>
        </p:txBody>
      </p:sp>
      <p:pic>
        <p:nvPicPr>
          <p:cNvPr id="247" name="" descr=""/>
          <p:cNvPicPr/>
          <p:nvPr/>
        </p:nvPicPr>
        <p:blipFill>
          <a:blip r:embed="rId1"/>
          <a:stretch/>
        </p:blipFill>
        <p:spPr>
          <a:xfrm>
            <a:off x="1143000" y="1905120"/>
            <a:ext cx="7191360" cy="410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EBECCBF-9FEE-4AF3-8AC4-6815E976DE7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Agreement</a:t>
            </a:r>
            <a:endParaRPr b="0" lang="en-US" sz="4400" spc="-1" strike="noStrike">
              <a:solidFill>
                <a:srgbClr val="000000"/>
              </a:solidFill>
              <a:latin typeface="Times New Roman"/>
            </a:endParaRPr>
          </a:p>
        </p:txBody>
      </p:sp>
      <p:sp>
        <p:nvSpPr>
          <p:cNvPr id="25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related to smaller closely-held corpo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s out rights and responsibilities of each shareholder that are not otherwise specified in incorporating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et out any unique provi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consensus and must comply with any legis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57200" y="1798560"/>
            <a:ext cx="8229600" cy="46785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structures availabl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e proprietor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ed company</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ructure allows business to be carried on and a profit mad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ructure must comply with government regulation and requirements, e.g. tax, CPP, workplace safety, etc.</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BCE4298-D67B-4BA5-B2F7-62E0916CE91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1" name="Rectangle 2"/>
          <p:cNvSpPr/>
          <p:nvPr/>
        </p:nvSpPr>
        <p:spPr>
          <a:xfrm>
            <a:off x="457200" y="609480"/>
            <a:ext cx="8229600" cy="1143000"/>
          </a:xfrm>
          <a:prstGeom prst="rect">
            <a:avLst/>
          </a:prstGeom>
          <a:solidFill>
            <a:srgbClr val="66ccff"/>
          </a:solid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l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5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11FD3D3-4EBA-4050-8285-E5978A98876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exibility</a:t>
            </a:r>
            <a:endParaRPr b="0" lang="en-US" sz="4400" spc="-1" strike="noStrike">
              <a:solidFill>
                <a:srgbClr val="000000"/>
              </a:solidFill>
              <a:latin typeface="Times New Roman"/>
            </a:endParaRPr>
          </a:p>
        </p:txBody>
      </p:sp>
      <p:sp>
        <p:nvSpPr>
          <p:cNvPr id="25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Ven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ual relationship in any form to do business for a project, usually for limited period of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bility is based on business form chose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5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AC87BE6-7472-4E64-8BBB-22FC544F736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Flexibilit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hi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lusive agreement for one company to sell the product or services of another, in a specified area, using all the names, logos, and advertising with permis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ranchisee must comply with all franchisor ru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ually requires start-up investment and then regular payments, often based on a percentage of prof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form contracts are customa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ovinces have statutes regulating franchi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FCB6D4D-7173-4988-B42A-E02668624C7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e Proprietorship</a:t>
            </a: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dividual carrying on business al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e proprietor =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wer reg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ormal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register a trade name, but not required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control</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DE8E18B-D949-494F-BC93-211492B8629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e Proprietorship</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mited li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ts (Personal assets are vulnerable to creditor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arious liability for torts of employee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ffset liability with insur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taxed at personal tax r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7D6C48B-A78E-4E43-99CD-DD023874ACC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nership</a:t>
            </a: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or more people carrying on business together for the purpose of making a prof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o formal process (but may need to register with government age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arties share the costs, participate in the management of the business, and ultimately expect to share the profit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3B7C361-2A8B-4E7B-ABF9-99C48452311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artnership</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taxed at personal tax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ed by </a:t>
            </a:r>
            <a:r>
              <a:rPr b="0" i="1" lang="en-US" sz="3200" spc="-1" strike="noStrike">
                <a:solidFill>
                  <a:srgbClr val="000000"/>
                </a:solidFill>
                <a:latin typeface="Times New Roman"/>
              </a:rPr>
              <a:t>Partnership Act </a:t>
            </a:r>
            <a:r>
              <a:rPr b="0" lang="en-US" sz="3200" spc="-1" strike="noStrike">
                <a:solidFill>
                  <a:srgbClr val="000000"/>
                </a:solidFill>
                <a:latin typeface="Times New Roman"/>
              </a:rPr>
              <a:t>common to common law provin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s out circumstances that do not create a partnership such a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rental profit from a jointly-owned propert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 commission or bonus based on business perform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3FEE1EA-8583-4D88-AE9E-59AC92B3A6A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express contr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ten agreement indicates rights and obligations of partner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rovisions of the </a:t>
            </a:r>
            <a:r>
              <a:rPr b="0" i="1" lang="en-US" sz="2800" spc="-1" strike="noStrike">
                <a:solidFill>
                  <a:srgbClr val="000000"/>
                </a:solidFill>
                <a:latin typeface="Times New Roman"/>
              </a:rPr>
              <a:t>Partnership Act</a:t>
            </a:r>
            <a:r>
              <a:rPr b="0" lang="en-US" sz="2800" spc="-1" strike="noStrike">
                <a:solidFill>
                  <a:srgbClr val="000000"/>
                </a:solidFill>
                <a:latin typeface="Times New Roman"/>
              </a:rPr>
              <a:t> can be modified by agreement</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greement silent on a point, the </a:t>
            </a:r>
            <a:r>
              <a:rPr b="0" i="1" lang="en-US" sz="2800" spc="-1" strike="noStrike">
                <a:solidFill>
                  <a:srgbClr val="000000"/>
                </a:solidFill>
                <a:latin typeface="Times New Roman"/>
              </a:rPr>
              <a:t>Act</a:t>
            </a:r>
            <a:r>
              <a:rPr b="0" lang="en-US" sz="2800" spc="-1" strike="noStrike">
                <a:solidFill>
                  <a:srgbClr val="000000"/>
                </a:solidFill>
                <a:latin typeface="Times New Roman"/>
              </a:rPr>
              <a:t> prevail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8:27:47Z</dcterms:created>
  <dc:creator>Client</dc:creator>
  <dc:description/>
  <dc:language>en-US</dc:language>
  <cp:lastModifiedBy>User</cp:lastModifiedBy>
  <dcterms:modified xsi:type="dcterms:W3CDTF">2012-04-24T16:31:23Z</dcterms:modified>
  <cp:revision>156</cp:revision>
  <dc:subject/>
  <dc:title>Chapter 7</dc:title>
</cp:coreProperties>
</file>